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BFD4-38E3-4EDE-8CC2-6A64A86C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5C91-D474-4FCA-A4CE-90BAF69C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6BF5C-35B9-4212-8AD3-2F060D26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C5268-47B7-4067-B950-6ECEDA2F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17552-88A2-4964-97F9-F2D3BE85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9756B-143E-4C6A-80BB-FD0538B8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8C6EE-117D-4690-81EF-228080A1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62E3C-54AD-48D7-8287-58AA86B6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840FE-9315-4062-BBC9-1ECA873F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8D45E-9077-457C-A7D8-B37A008C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805BB-A908-4203-86DD-95931448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724E1-5CFE-42B2-A201-2F9DD64A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3DC5-EE10-4287-B657-B9AB2829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E12B7-6BD2-4281-A370-2823833D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5330C-FFBC-41B3-840D-395E3738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78498-AA18-4E28-9571-9F01457C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8FF05-7E80-43CB-8BDB-B5EF2C54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124B0-B66B-4867-A15A-DE4019C9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A805C-513F-4FEE-BAE4-2835266E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6E42C-2107-4950-BF52-AA7863A2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3148F-F8A9-45B8-8E65-2B0125D2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D9CA7-2CE2-4B1B-A9F3-BAC74B44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83804-5348-4F13-A580-66A25386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7B76-A638-40CC-A833-DE36FC6B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F202F-C365-41EF-9B59-00FBE85F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983F5-B847-452F-9AD2-B8E5B138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B4324-63E5-4B67-8888-7BFCAD70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F3BEE-441C-4943-858A-577FB66D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BA2C7-3631-46DB-A74F-34E7A5D6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4D9FD-2108-41B2-AB4F-2D2D74B1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152BA-14CE-435B-BDA1-5FDA184D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D07EA-7289-4E2D-9C70-78935E53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14051-4301-4458-BAD7-0563BAA2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89FBA-3703-4571-9603-C8710459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1C97-731C-4424-9CDE-0775BA69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329B6-F139-4890-AACC-7D682B02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F4680-BA5E-480E-970B-F02497DD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35D10-BDF4-44CD-A578-59B7EB97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FC930-4469-4258-B6A5-DAC88286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29CF5-84A6-4C50-9868-DD7EC3FA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A21D5-F55E-4B87-B8C8-72985FB9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FE539-AC0E-4073-9C2F-890AD625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CAD53-5CCE-4877-9AC9-FD934E41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6D820-A0EE-453D-873B-FABE2E0A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A0DC6-F831-4765-8008-16510860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AA91-0C86-4B3E-A5D9-82B8FED1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B4F1B-9447-4093-9362-8AF2036C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26CE7-030F-4E88-A03E-FD69FB60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BE5B9-8440-4E71-8571-CC189C9E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86A9A-C44B-43DE-9C67-A09A01D0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95EEE-2D25-401F-9893-5C9252F5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600C5B-1521-47A1-8DC5-0D180554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61DAB0-BBEE-4A40-A9E2-EDDF8F77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CF8869-E4D4-4278-9D01-19F4E09E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7A1793-3D78-464A-ACFF-E221B9D8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5919B-771D-48EA-ADE4-D8D069B4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7E6E-7FFD-4965-B26C-BB60DB35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9C98A3-FC49-498E-8035-84CA954E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F953B-043C-4DEE-B99E-DB28DF22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6F7572-18EE-4F18-9757-A5233EE6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B10088-42D5-4C0B-B2C4-C8F551F4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F898C-9A31-4D7F-AB7A-7836526F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7ED791-93CC-47A1-9B14-74CFEE3E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2E3972-215A-44CC-9021-41C94B31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EE7B1B-5AA8-4F21-ADBA-B940CC8D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FFD580-1A34-4241-8625-F33B9615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5AED7D-85D2-45F7-BF81-9010736D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888B-1C35-4A26-8FC0-117D8405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F1C107-B826-4417-83C8-3596D2C4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C5802A-4A1E-4CB1-AFCE-9933AE77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852695-FE5A-4684-A17B-CF147734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CCE869-AF5F-41D8-8013-1CC5B448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021EA3-94BB-4105-AFD9-0526381B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EB5F2A-1AE4-4590-9110-1B03D74E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2F9D94-ADD1-4DC3-A7C7-949CE94C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4B35AE-B097-4C11-A194-26E916CE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DB6F1-A90E-4D5C-AA66-0CAA597B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54F607-D43F-4719-8215-F16C3893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1615-4BA6-4A75-A57A-36634E9E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2BA75D-807D-4C4A-A937-226034BC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BD11FE-BE71-4BAE-9582-D6927673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56C0DC-2313-4200-8AF2-D78206DC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43659E-AD85-47F9-B14B-EA445E02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E7332B-41E5-4118-8389-24527969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68C853-C592-4D45-80EB-3099C1A8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1856E4-FAA9-4DB8-AB39-9A772BDB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FD1210-8AAE-494D-81B7-D74FE339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428E37-D088-4C91-9D41-64118F0B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EA32C2-78AE-4800-BEA3-3227EC49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7D20-8B88-4B65-A313-279E82CA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320D01-6D3C-4107-92A5-97E9FCA4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E7D5FD-D1CF-4116-8A29-DEC42C9A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D73A46-045D-4B19-AC50-2D8F3DC5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17AB6B-AA70-48D3-BD00-37BE6FD1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A76315-1048-4352-8BF7-01B63302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4A3B9D-CD99-4730-9509-7056D6D5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0632D7-B777-4B52-B43A-B213E73A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ED1DB9-B452-454F-A4AE-285E062E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8101AA-DFA1-487F-AC02-5A1D9BDB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AF9F5A-6041-42D9-ADAB-926DBBC7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17EB-BD14-4AF5-AF9D-E2D95870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3FFA92-B877-4C8A-A02A-6973041F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FB6E98-F2C4-46E2-AA0E-53D8B567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4EDA2A-5CD2-412D-8357-B70A042E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6CA31E-A576-4EED-ACC5-61AD0280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8935F0-3D64-410B-9F74-8E445E19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7A611E-3D6B-44E8-BE44-6AAEED06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5408B2-677A-4766-8ED5-9E60B0BC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E17452-EEF4-4FBB-B897-EDC56F86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BA34B0-3FCE-4582-A6C2-90817C5F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6CDD87-E855-42D3-9677-009A6977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BA13-69DF-4111-A011-CDCA590F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3F05-07FC-4748-BC31-B2DB362F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1BC665-5479-4491-A0CE-2B351D32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3AD292-DD11-4125-8DC1-E06F2D14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D6FF04-E3A9-4494-8592-C399F2F9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1239FF-A41E-47A2-9988-290FCD59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1456B6-FDB7-4B13-80DE-32041312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DD1DC5-8C09-4958-955E-7C4BC614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85A43D-E993-4F36-BF1B-80E1458A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C1E0C4-6EEE-4D0A-BF50-895863DE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98CF26-A76C-47B9-8C45-58DA18F2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F8A691-C56E-4ADD-ACED-02316230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1BA3-378D-40EE-8B93-261ACF48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52358F-BE8E-47BB-BF1A-6D1D9747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8623DF-6A21-48BD-848F-8CB961FA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9A4B0A-876E-40BB-B29C-F649716A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E7C784-5158-406D-AB79-CBAE82C8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0D7879-5AD3-43E6-97D3-E87BC19A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9AF9C9-FABB-4017-8692-480C1B0E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472CC9-09D9-4B57-A18A-E7271D1D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FA3F15-845B-4F10-A9AE-DB549DD2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382B2A-6EC4-4361-8ACC-923072D7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0C8AA3-CCBD-427C-B09C-EF767F90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E3C4-43BA-42A5-AF50-1A637094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2DAFBA-B273-4F36-86DD-54CC7C4A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2FD3D5-8A6B-4A28-9671-5B722E91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E6450C-40B1-46EB-9B99-15568965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A0D536-804E-4DF1-B7A8-F577D413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FF93BF-BEDB-4E03-BA57-8C56621F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039778-ABDF-442F-8A9E-59BF54E9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03C289-9767-450D-B10D-E0B805A0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F16814-9C91-4043-8F4E-8A5A3417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FDA9AF-40CE-4193-A8B9-10EC7C4D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EC8620-3687-4DB1-ABE6-9565A2FB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5C47-8B8B-43B7-BF5F-E3097900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40661E-A844-4A95-A65E-5C495536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A75CAB-9D42-4746-ABB2-E498CED9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750B1E-E6A4-4CDB-B19B-6DF910D1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BE73D2-35EA-478A-852B-2F348418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2008BF-AA66-4A2A-BF84-6DC63FE4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EFE4AF-CFE7-4D4A-9DDE-3A66895F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0F867F-216F-456B-AA70-49F039B7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E2ABB2-667E-4030-9943-5E0802B8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F916A2-E85B-44BB-B08F-084C8324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E54E33-EEDA-4EA9-B2F9-130397E1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FF97-BFAD-43CD-9580-9333FC07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A259DC-D42D-4064-9438-E3FFCE13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9F6E45-73F1-41D5-982B-A09CE518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9518EA-8A8D-44B3-AB2B-81792323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F751C5-6B37-45FC-BB50-D226AA3E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290E24-02B9-411C-B329-3F094CE2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EC4452-524D-4B81-8CA4-10D6FC60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4D1F8D-CF97-4EAD-A45A-7CAFCB69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5B4796-054C-46B9-9173-A5ED80F1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F2463E-1361-41BC-96B9-71048667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6D7A42-AC11-4D86-B5A4-C44B3C0F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5D7EA-E0C2-42E0-A6A3-FE97E6E1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5C012E-6575-4B68-8251-D29DE86E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D0D639-5AD7-4788-98B9-6C4138A9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ECAB3A-7536-4B01-B42C-A2EBE903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8C3A4-4868-4BFB-88A9-19690F7E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0443B-FE77-478C-9487-5E997DA5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1CEFF-4723-483B-801D-EF5410F6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4736E-0F39-4810-BE4E-737C6A50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A982-FDAF-447E-9EED-AEA5228A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52062-CBC8-4B68-B0B9-E2048F5E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DC9A0-7F8D-4ED1-B95D-00DD9998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DF832-4549-490A-A156-F760D103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F4F08-9B3B-4E83-BA34-4E464441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7C6C5-0CFC-4E7F-8F7C-5FB050AE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32DFB-1BDA-4D72-9D4C-8CF50B70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7112A-6A74-4F97-A521-A8A2EF12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0D02A-4925-443B-9221-D5A1D794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3CD6D-B295-48E4-B692-61715077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E40C2-E4D8-4045-A29B-F40EF022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9940-D04A-4FB5-B9FF-3FBEDC4C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16C79-7D5D-4A45-B56E-D05E8CE3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09D68-BD37-41BB-A4BE-EA8F1AC5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AA24B-58E7-4DD2-8E58-DC36E3C2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815D8-6B58-4FFD-85A0-2277495C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4D480-F6F3-4285-98F3-9711E367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C598A-60A9-4788-9B34-2B7CA901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919D4-7DE7-4C52-AD41-76C4FB3C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55C07-5A6E-43F4-A0CE-9E986959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DBDE7-6F64-469C-ACAA-324D623E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DFCB4-2F86-479D-AF33-EF8A3769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929E-D7F6-424B-B760-ED3F3EBB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4CD67-A70F-42F5-8960-D773E903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E7B40-192B-4D2D-9FCC-0335BE3C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AE290-4BCC-44C0-806D-E30429F7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ADAE9-D165-4BE7-AB10-4E4CCE1E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C56BA-DC1D-43E4-BB59-9258D827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71B89-FD8C-4F91-B970-CD6E21FC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317A8-CC83-4D1A-B92C-E11E53CC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A0947-4A11-47B3-927F-93201DA8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BFE13-C20A-41BF-A58D-5D9BBBE8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BD3D5-8CC0-4061-AD58-C1CBC8A9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08B-818E-458F-AD08-2E62CEF3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C1754-EE06-441F-B650-568A2B71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C0403-3448-43DA-9CCB-C657365D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D4A06-A048-41AE-9ECD-7CA2A365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B2B6D-1D96-41B0-B599-C1259B2B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570D4-5610-4EB2-B843-E1FC354E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97E5C-295A-4701-8C06-95833E93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7292F-557C-4828-A50F-3E9282CE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33EC9-822F-41A3-8396-679CC0DD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04384-1DE8-4118-9835-817871F8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30862-02FA-4F3F-843A-B70CD4D8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C105-8D2A-45B3-9494-1992582F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28EF9-38CC-450E-8E72-57D575F5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01AD3-9689-40E6-9A13-7ADE58D3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8BE82-F62F-4903-9879-C4695DDE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841B0-FE9B-468C-AE82-EA043FB1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7A9F5-BE8E-4105-80C6-6ABF3B0A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04613-D8A9-49B9-BA5F-3B025E6E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A3C41-BC73-4FE6-9C7D-85B12121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1AFEA-C5F1-4E35-AA64-249C7860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3D4E3-941E-4580-AAFB-6679B462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423AC-EF60-4223-BB24-797FE49A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C66D-03B6-4A89-B907-21529257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E43A4-C9B6-42D0-8BCC-E5384F2E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39241-6A61-4645-BC86-27D98E33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EF1A0-D8BA-40FE-80E9-4C820049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3F2C0-FD2D-4874-BC99-2F50D7BA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C6AB8-110B-4257-B0A0-CD755D56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68F37-3417-497F-8696-14A89B1A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6BF59-2653-4C89-AA88-D7495ABF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0EB58-8E26-4C9F-B635-F331FCB7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61CFC-6F35-4F11-AC52-34FC7AAB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ADBC8-41D4-4B5E-92EB-33E9856C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EAD1-7EC4-474F-AA70-F4B4B0B3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B897A-B3D7-483B-A20E-9249D488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B15D4-78AD-4E24-AB81-6CD5292B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A6263-6049-4394-AA30-79ACBDBB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F0520-404B-4D4D-8545-2F256B33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7B714-0CCA-4E6B-90EC-4E562BA0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3BE69-D209-40C0-B473-D92C2BA2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5C093-DE74-498D-AC00-50C1F124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6DAE6-DD74-480D-995B-232F1F73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E5132-2EE6-476E-A04C-29AF4138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E0DCA-002E-4F71-B9F4-8748E4F4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B85E-E9B2-44B4-ADF1-85CADC8B8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39EF-FECE-4F2D-9F51-2ADAE69F06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42C3-B491-4C52-BB27-4800F55EA8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146E-8AB0-4273-99DB-FE241BE320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CCEE-EB7B-490C-AB46-BEFF86ADFF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754F-665E-4CEB-96F3-1831189E0D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25E5-DA5B-4BCC-BDF8-BF937EE497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DFC0-8965-4FB7-9FF3-35AA415379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6700-530C-43C5-995C-2E1BE20366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F3AF-A929-4AF1-885F-36C2F3C79D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3FB2-B908-46B2-B9B3-4A112AB743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501B-C58C-4963-96FA-4F4D62B06A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16D7-E100-43C2-ACEF-CC3B23AB3E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2328-44A9-4075-A614-13CBDC9DDE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A583-D40D-4D33-9C40-2EF3FCB513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86AB-46FB-4EA8-87DF-1685074A90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CAC0-BDF3-4D0E-92B4-52780F9B22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31D2-E35B-4FCC-90B4-61BBC3BA8D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14C9-64F7-4FF8-8C94-0EC9595146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BB20-4809-4909-8453-F5A87A23E5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6281-807C-4E32-BF17-039DF47692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F240-60BD-4982-8D57-D2067E48DA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9083-FF06-47AD-AB9D-42CFE64D59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8B73-5698-4282-B138-7A3DB44D86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FADD-FE66-4D93-9187-8C1FBC41BF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B3C1-B174-47AA-B52E-62DB367879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F56D-4C84-4B59-8CF5-4265D9B079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9DDE-F089-43B6-AA16-96B71FF99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C793-5FBE-40CD-8948-C4CD1585F4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1355-6054-4F64-9BAE-E1BF6123A9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AD2A-10B6-4E43-AB45-D72FE37784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4AE8-A318-4451-A520-3E6160079B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5233-0360-4569-9F2C-E6646D01BB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6590-C805-4402-8D5B-CDFF51F02A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DA96-1833-4CA5-8270-063A1F5348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D370-79DB-4F9E-B153-3726B14354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8C00-CA17-4AEE-9218-B0EE84BDE9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9D93-15B1-487C-953C-DF6F06A0B6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AA43-2B10-4F4B-8CA1-AEFEF7A5F9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D4A1-15D1-4BCE-9FCC-2F448149BA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914400" y="2719440"/>
            <a:ext cx="73152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461880" y="1752480"/>
            <a:ext cx="8218440" cy="33530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432080" y="2637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476360" y="3213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476360" y="3789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476360" y="436572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318960" y="870120"/>
            <a:ext cx="8504280" cy="57434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1258920" y="16002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332000" y="329868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1258920" y="505620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409680" y="1647720"/>
            <a:ext cx="8324640" cy="35625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1403280" y="4076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1403280" y="234936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1403280" y="4653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1403280" y="2924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1403280" y="3500280"/>
            <a:ext cx="43200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147600" y="1743120"/>
            <a:ext cx="8847000" cy="3371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4752720" cy="384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1273320" y="4610160"/>
            <a:ext cx="475272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6:58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